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3CC9-C9C8-435A-A51D-AE7873DC529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814E-8CF2-4780-BA48-D1BD59D3F2F1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2D79-459A-4CAA-847C-14E1BDBC6223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2E85-50CA-4CBD-9A28-F5B81951F9FF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81E5-CC4F-42A8-B2DA-9CC319FFCDE0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ABC0-B02E-4E62-A79E-1A19E6EE36DF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F502-52B4-4E8C-A222-011B2214B6A1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2757-F215-4854-B1FF-F85D98F4E5EC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A671-839A-493B-BF1D-631F0F2D8C85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3183-3416-4ABA-8E82-AA2313E2DBCC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81F9-A5B5-4643-8D2C-24448D7EC9A5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1596-3651-4941-8428-A425505830D9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DE61-E468-415E-833F-61D6173E776C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4CE5-F59B-442A-B1DF-14E58A7DB3CF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6580-604F-4ED9-9057-1C79F2724B26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1129-C1C3-466E-9760-79216842931A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D16C-80DE-4D9C-ACAE-87A590BE9F2A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5145-2451-46C8-B373-4C11B68B706D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1745-D530-45AE-B050-BD489723BDEC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2185-0ABB-451A-82C1-64CE4B2158D2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0066-EE42-41E3-8004-E02C1B830804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2CA8-D61E-4E4F-B96D-8518598944D0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DE94-0D3A-4708-A0DC-2B9E8A6F06AE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299-686D-4791-B5EF-284534E6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664-E265-42DC-8A15-988B3883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83A-4656-4543-95A0-2BD955B5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CA2-DF95-4CDC-9576-72AB7B01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5E4-AA70-4F03-ABA4-4E77F3F6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4E4-7AE8-4011-B141-3BBB5B62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969-B243-400F-8A71-8D69AB4E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894-716F-4B6E-82CE-0D001491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112-B389-4590-92CF-72033745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6F6-F8ED-4290-AF00-514B5DE3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81B-E033-44BA-80BB-E84C7C21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BA3-DDF7-41D8-9F28-5916D376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EEA4-2C9D-4F33-A83D-59AD7334BC7A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19280" y="1052640"/>
            <a:ext cx="5877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PODSTAW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EDYTORA GRAFIKI "PAINT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27082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Prezentacja ma na celu zapoznanie ucznió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z podstawowymi funkcjami edytora grafiki Pai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57200" y="646128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ole tekstowe 7"/>
          <p:cNvSpPr/>
          <p:nvPr/>
        </p:nvSpPr>
        <p:spPr>
          <a:xfrm>
            <a:off x="539640" y="429264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  <a:ea typeface="Tahoma"/>
              </a:rPr>
              <a:t>Prezentacja dotyczy wersji PAINT sytemu Windows X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  <a:ea typeface="Tahoma"/>
              </a:rPr>
              <a:t>W wersji Windows 7, 8, 10 jest troszeczkę inna, ale narzędzia i sposób korzystania z nich jest bardzo podobn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3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21000" cy="4968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3962520" y="342900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Aby narysować linię, przeciągamy kursor myszki z naciśniętym klawiszem myszki po obszarze rysowania.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62520" y="4648320"/>
            <a:ext cx="50292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Aby rysować linie idealnie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roste, lub nachylone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od kątem 45 stopni,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ależy trzymać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wciśnięty klawisz SHIFT.</a:t>
            </a:r>
            <a:r>
              <a:rPr b="1" lang="pl-PL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4952880" y="1371600"/>
            <a:ext cx="43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Wybierz linie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4038480" y="2209680"/>
            <a:ext cx="49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Wybór grubości lin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Rysowanie lin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30"/>
          <p:cNvSpPr/>
          <p:nvPr/>
        </p:nvSpPr>
        <p:spPr>
          <a:xfrm rot="19980000">
            <a:off x="762120" y="3657240"/>
            <a:ext cx="4800600" cy="115920"/>
          </a:xfrm>
          <a:prstGeom prst="leftArrow">
            <a:avLst>
              <a:gd name="adj1" fmla="val 50000"/>
              <a:gd name="adj2" fmla="val 103532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31"/>
          <p:cNvSpPr/>
          <p:nvPr/>
        </p:nvSpPr>
        <p:spPr>
          <a:xfrm rot="20220000">
            <a:off x="517320" y="2590560"/>
            <a:ext cx="5181480" cy="115920"/>
          </a:xfrm>
          <a:prstGeom prst="leftArrow">
            <a:avLst>
              <a:gd name="adj1" fmla="val 50000"/>
              <a:gd name="adj2" fmla="val 111746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5"/>
          <p:cNvGraphicFramePr/>
          <p:nvPr/>
        </p:nvGraphicFramePr>
        <p:xfrm>
          <a:off x="1143000" y="2743200"/>
          <a:ext cx="15508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43200"/>
                    <a:ext cx="15508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8"/>
          <p:cNvSpPr/>
          <p:nvPr/>
        </p:nvSpPr>
        <p:spPr>
          <a:xfrm>
            <a:off x="3657600" y="2971800"/>
            <a:ext cx="46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Narzędzie to służy do pobierania koloru z rysunku, obrazk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Narzędzie ZAKRAPLAC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13"/>
          <p:cNvSpPr/>
          <p:nvPr/>
        </p:nvSpPr>
        <p:spPr>
          <a:xfrm>
            <a:off x="2666880" y="3505320"/>
            <a:ext cx="990720" cy="115920"/>
          </a:xfrm>
          <a:prstGeom prst="leftArrow">
            <a:avLst>
              <a:gd name="adj1" fmla="val 50000"/>
              <a:gd name="adj2" fmla="val 21366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304920" y="137160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Program Paint pozwala na tworzenie prostych figur geometrycznych. Możemy skorzystać z prostokątów, wielokątów, okręgów, elips i zaokrąglonych prostokątów.</a:t>
            </a:r>
            <a:r>
              <a:rPr b="1" lang="pl-PL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476360" y="508464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ZAOKRĄGLONY PROSTOKĄ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30072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ELIP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6324480" y="5191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WIELOKĄ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476360" y="3500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PROSTOKĄ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23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834840" cy="76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4" descr=""/>
          <p:cNvPicPr/>
          <p:nvPr/>
        </p:nvPicPr>
        <p:blipFill>
          <a:blip r:embed="rId2"/>
          <a:stretch/>
        </p:blipFill>
        <p:spPr>
          <a:xfrm>
            <a:off x="5334120" y="3357720"/>
            <a:ext cx="834840" cy="76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"/>
          <p:cNvPicPr/>
          <p:nvPr/>
        </p:nvPicPr>
        <p:blipFill>
          <a:blip r:embed="rId3"/>
          <a:stretch/>
        </p:blipFill>
        <p:spPr>
          <a:xfrm>
            <a:off x="5364000" y="5084640"/>
            <a:ext cx="792360" cy="728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6" descr=""/>
          <p:cNvPicPr/>
          <p:nvPr/>
        </p:nvPicPr>
        <p:blipFill>
          <a:blip r:embed="rId4"/>
          <a:stretch/>
        </p:blipFill>
        <p:spPr>
          <a:xfrm>
            <a:off x="611280" y="5084640"/>
            <a:ext cx="830160" cy="722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044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45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Rysowanie figur geometrycz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3962520" y="23623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Aby otrzymać każdą z tych figur należy wybrać w przyborniku odpowiednie narzędzie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i kliknąć na jednym z trzech stylów ramk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0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1017360" cy="51055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6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Rysowanie figur geometrycz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8"/>
          <p:cNvSpPr/>
          <p:nvPr/>
        </p:nvSpPr>
        <p:spPr>
          <a:xfrm rot="20640000">
            <a:off x="995040" y="3808080"/>
            <a:ext cx="3505320" cy="115920"/>
          </a:xfrm>
          <a:prstGeom prst="leftArrow">
            <a:avLst>
              <a:gd name="adj1" fmla="val 50000"/>
              <a:gd name="adj2" fmla="val 75597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9"/>
          <p:cNvSpPr/>
          <p:nvPr/>
        </p:nvSpPr>
        <p:spPr>
          <a:xfrm rot="20400000">
            <a:off x="1285560" y="4747680"/>
            <a:ext cx="3809880" cy="115920"/>
          </a:xfrm>
          <a:prstGeom prst="leftArrow">
            <a:avLst>
              <a:gd name="adj1" fmla="val 50000"/>
              <a:gd name="adj2" fmla="val 82166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20"/>
          <p:cNvSpPr/>
          <p:nvPr/>
        </p:nvSpPr>
        <p:spPr>
          <a:xfrm rot="20160000">
            <a:off x="1292400" y="4860720"/>
            <a:ext cx="3886200" cy="150480"/>
          </a:xfrm>
          <a:prstGeom prst="leftArrow">
            <a:avLst>
              <a:gd name="adj1" fmla="val 50000"/>
              <a:gd name="adj2" fmla="val 64563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21"/>
          <p:cNvSpPr/>
          <p:nvPr/>
        </p:nvSpPr>
        <p:spPr>
          <a:xfrm rot="19920000">
            <a:off x="1218960" y="5028840"/>
            <a:ext cx="4038480" cy="152280"/>
          </a:xfrm>
          <a:prstGeom prst="leftArrow">
            <a:avLst>
              <a:gd name="adj1" fmla="val 50000"/>
              <a:gd name="adj2" fmla="val 66300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26" descr="cap126"/>
          <p:cNvPicPr/>
          <p:nvPr/>
        </p:nvPicPr>
        <p:blipFill>
          <a:blip r:embed="rId1"/>
          <a:stretch/>
        </p:blipFill>
        <p:spPr>
          <a:xfrm>
            <a:off x="533520" y="2895480"/>
            <a:ext cx="2263680" cy="3448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27"/>
          <p:cNvSpPr/>
          <p:nvPr/>
        </p:nvSpPr>
        <p:spPr>
          <a:xfrm>
            <a:off x="3429000" y="327672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TYLKO KONTUR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- rysuje wyłącznie kontur kształt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28"/>
          <p:cNvSpPr/>
          <p:nvPr/>
        </p:nvSpPr>
        <p:spPr>
          <a:xfrm>
            <a:off x="3429000" y="426708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KONTUR I WYPEŁNIENIE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- rysuje kontur i wypełnia go kolor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29"/>
          <p:cNvSpPr/>
          <p:nvPr/>
        </p:nvSpPr>
        <p:spPr>
          <a:xfrm>
            <a:off x="3429000" y="54100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BEZ KONTURU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– rysuje wypełnienie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34"/>
          <p:cNvSpPr/>
          <p:nvPr/>
        </p:nvSpPr>
        <p:spPr>
          <a:xfrm>
            <a:off x="457200" y="1905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Kliknięcie w styl powoduje rysowani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47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Rysowanie figur geometrycz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48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1049"/>
          <p:cNvSpPr/>
          <p:nvPr/>
        </p:nvSpPr>
        <p:spPr>
          <a:xfrm>
            <a:off x="2286000" y="3505320"/>
            <a:ext cx="990720" cy="115920"/>
          </a:xfrm>
          <a:prstGeom prst="leftArrow">
            <a:avLst>
              <a:gd name="adj1" fmla="val 50000"/>
              <a:gd name="adj2" fmla="val 21366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1050"/>
          <p:cNvSpPr/>
          <p:nvPr/>
        </p:nvSpPr>
        <p:spPr>
          <a:xfrm>
            <a:off x="2362320" y="4572000"/>
            <a:ext cx="990360" cy="115920"/>
          </a:xfrm>
          <a:prstGeom prst="leftArrow">
            <a:avLst>
              <a:gd name="adj1" fmla="val 50000"/>
              <a:gd name="adj2" fmla="val 21358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1051"/>
          <p:cNvSpPr/>
          <p:nvPr/>
        </p:nvSpPr>
        <p:spPr>
          <a:xfrm>
            <a:off x="2362320" y="5562720"/>
            <a:ext cx="990360" cy="115920"/>
          </a:xfrm>
          <a:prstGeom prst="leftArrow">
            <a:avLst>
              <a:gd name="adj1" fmla="val 50000"/>
              <a:gd name="adj2" fmla="val 21358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808360" cy="43927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4"/>
          <p:cNvSpPr/>
          <p:nvPr/>
        </p:nvSpPr>
        <p:spPr>
          <a:xfrm>
            <a:off x="-855720" y="306396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352680" y="1600200"/>
            <a:ext cx="56390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Aby narysować prostokąt lub kwadr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z przybornika wybieramy prostoką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lub ten przycisk, aby utworzyć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kształt o zaokrąglonych narożnikach.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Aby narysować prostokąt, przeciągamy wskaźnik skośnie w dowolnym kierunk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Aby narysować kwadrat, podczas przeciągania wskaźnika trzymamy wciśnięty klawisz SHIFT.</a:t>
            </a:r>
            <a:r>
              <a:rPr b="0" lang="pl-PL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3733920" y="5410080"/>
            <a:ext cx="52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Tahoma"/>
              </a:rPr>
              <a:t>Uwaga: Elipsę i okrą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Tahoma"/>
              </a:rPr>
              <a:t>tworzymy w sposób analogiczn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Rysowanie figur geometrycz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18"/>
          <p:cNvSpPr/>
          <p:nvPr/>
        </p:nvSpPr>
        <p:spPr>
          <a:xfrm rot="20400000">
            <a:off x="596520" y="3133440"/>
            <a:ext cx="4419720" cy="115920"/>
          </a:xfrm>
          <a:prstGeom prst="leftArrow">
            <a:avLst>
              <a:gd name="adj1" fmla="val 50000"/>
              <a:gd name="adj2" fmla="val 95318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19"/>
          <p:cNvSpPr/>
          <p:nvPr/>
        </p:nvSpPr>
        <p:spPr>
          <a:xfrm rot="20160000">
            <a:off x="773280" y="3412800"/>
            <a:ext cx="4114800" cy="115920"/>
          </a:xfrm>
          <a:prstGeom prst="leftArrow">
            <a:avLst>
              <a:gd name="adj1" fmla="val 50000"/>
              <a:gd name="adj2" fmla="val 8874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8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505320" cy="4537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3657600" y="3352680"/>
            <a:ext cx="54864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To narzędzie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służy do wypełniania kolorem dowolnego zamkniętego obszaru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Aby wypełnić obszar kolorem klikamy tą ikonkę oraz obiekt który ma zostać wypełniony, n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ff00"/>
                </a:solidFill>
                <a:latin typeface="Arial Black"/>
              </a:rPr>
              <a:t>ziel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5638680" y="182880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3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Narzędzie WYPEŁNIANIE KOLO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685800" y="2514600"/>
            <a:ext cx="4952880" cy="115920"/>
          </a:xfrm>
          <a:prstGeom prst="leftArrow">
            <a:avLst>
              <a:gd name="adj1" fmla="val 50000"/>
              <a:gd name="adj2" fmla="val 106816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15"/>
          <p:cNvSpPr/>
          <p:nvPr/>
        </p:nvSpPr>
        <p:spPr>
          <a:xfrm rot="840000">
            <a:off x="2057040" y="5638680"/>
            <a:ext cx="3807000" cy="115920"/>
          </a:xfrm>
          <a:prstGeom prst="leftArrow">
            <a:avLst>
              <a:gd name="adj1" fmla="val 50000"/>
              <a:gd name="adj2" fmla="val 82104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620640" y="2682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5364000" cy="22766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2666880" y="1295280"/>
            <a:ext cx="6477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To narzędzie to aerograf.  Używamy tego narzędzia tak jak farby w spray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Rozmiar rozpylanej plamy możesz wybrać klikając na jednym ze stylów aerograf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1008000" cy="14810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2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Narzędzie AEROGR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14"/>
          <p:cNvSpPr/>
          <p:nvPr/>
        </p:nvSpPr>
        <p:spPr>
          <a:xfrm>
            <a:off x="1523880" y="1676520"/>
            <a:ext cx="990720" cy="115920"/>
          </a:xfrm>
          <a:prstGeom prst="leftArrow">
            <a:avLst>
              <a:gd name="adj1" fmla="val 50000"/>
              <a:gd name="adj2" fmla="val 21366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15"/>
          <p:cNvSpPr/>
          <p:nvPr/>
        </p:nvSpPr>
        <p:spPr>
          <a:xfrm>
            <a:off x="1447920" y="2971800"/>
            <a:ext cx="990360" cy="115920"/>
          </a:xfrm>
          <a:prstGeom prst="leftArrow">
            <a:avLst>
              <a:gd name="adj1" fmla="val 50000"/>
              <a:gd name="adj2" fmla="val 21358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6019920" y="4800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Przykład zastosowania aerograf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17"/>
          <p:cNvSpPr/>
          <p:nvPr/>
        </p:nvSpPr>
        <p:spPr>
          <a:xfrm>
            <a:off x="5105520" y="5334120"/>
            <a:ext cx="990360" cy="115920"/>
          </a:xfrm>
          <a:prstGeom prst="leftArrow">
            <a:avLst>
              <a:gd name="adj1" fmla="val 50000"/>
              <a:gd name="adj2" fmla="val 21358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4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5105160" cy="24876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228600" y="1523880"/>
            <a:ext cx="6095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Aby wprowadzić tekst do naszego rysunku wybieramy ikonkę.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5181480" y="243828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Pojawi nam się pasek formatowania tekst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Narzędzie TEK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23"/>
          <p:cNvSpPr/>
          <p:nvPr/>
        </p:nvSpPr>
        <p:spPr>
          <a:xfrm flipH="1">
            <a:off x="2895480" y="2362320"/>
            <a:ext cx="115920" cy="2057400"/>
          </a:xfrm>
          <a:prstGeom prst="downArrow">
            <a:avLst>
              <a:gd name="adj1" fmla="val 50000"/>
              <a:gd name="adj2" fmla="val 44371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24"/>
          <p:cNvSpPr/>
          <p:nvPr/>
        </p:nvSpPr>
        <p:spPr>
          <a:xfrm flipH="1">
            <a:off x="6705720" y="3200400"/>
            <a:ext cx="115920" cy="914400"/>
          </a:xfrm>
          <a:prstGeom prst="downArrow">
            <a:avLst>
              <a:gd name="adj1" fmla="val 50000"/>
              <a:gd name="adj2" fmla="val 19720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5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2908080" cy="3456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0"/>
          <p:cNvSpPr/>
          <p:nvPr/>
        </p:nvSpPr>
        <p:spPr>
          <a:xfrm>
            <a:off x="5508720" y="2708280"/>
            <a:ext cx="1079280" cy="4334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04920" y="1676520"/>
            <a:ext cx="48765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Jeśli chcemy wyciąć lub skopiować część rysunku, musimy zaznaczyć odpowiedni jego fragmen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Paint udostępnia nam dwa narzędzia temu służą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04920" y="54864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Zaznacz kształ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13" descr=""/>
          <p:cNvPicPr/>
          <p:nvPr/>
        </p:nvPicPr>
        <p:blipFill>
          <a:blip r:embed="rId2"/>
          <a:stretch/>
        </p:blipFill>
        <p:spPr>
          <a:xfrm>
            <a:off x="1905120" y="4648320"/>
            <a:ext cx="1326960" cy="8157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8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Narzędzie ZAZNACZ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21"/>
          <p:cNvSpPr/>
          <p:nvPr/>
        </p:nvSpPr>
        <p:spPr>
          <a:xfrm rot="19500000">
            <a:off x="2895480" y="4038120"/>
            <a:ext cx="3429000" cy="115920"/>
          </a:xfrm>
          <a:prstGeom prst="rightArrow">
            <a:avLst>
              <a:gd name="adj1" fmla="val 50000"/>
              <a:gd name="adj2" fmla="val 73951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9640" y="2205000"/>
            <a:ext cx="81536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ffff"/>
                </a:solidFill>
                <a:uFillTx/>
                <a:latin typeface="Tahoma"/>
              </a:rPr>
              <a:t>Microsoft Paint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- aplikacja firmy Microsoft służąca do podstawowej edycji grafiki, przeznaczona do użytku amatorskiego, domowego. Potrafi zapisywać i odczytywać grafikę w formatach: BMP, JPEG, GIF, TIF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Program ten jest standardowo instalowany z systemami Windows.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900000" y="112536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Wiadomości wstępne o programie Pa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57200" y="646128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304920" y="3124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Lupa – jest narzędziem pozwalającym powiększyć część rysun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1908000" y="5157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Wybieramy stopień powiększen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5219640" y="501336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636"/>
                </a:lnTo>
                <a:cubicBezTo>
                  <a:pt x="10800" y="11536"/>
                  <a:pt x="5400" y="12436"/>
                  <a:pt x="0" y="12436"/>
                </a:cubicBezTo>
                <a:cubicBezTo>
                  <a:pt x="5400" y="12436"/>
                  <a:pt x="10800" y="13336"/>
                  <a:pt x="10800" y="1423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13" descr=""/>
          <p:cNvPicPr/>
          <p:nvPr/>
        </p:nvPicPr>
        <p:blipFill>
          <a:blip r:embed="rId1"/>
          <a:stretch/>
        </p:blipFill>
        <p:spPr>
          <a:xfrm>
            <a:off x="1995480" y="1989000"/>
            <a:ext cx="906480" cy="935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996840" cy="1514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5" descr=""/>
          <p:cNvPicPr/>
          <p:nvPr/>
        </p:nvPicPr>
        <p:blipFill>
          <a:blip r:embed="rId3"/>
          <a:stretch/>
        </p:blipFill>
        <p:spPr>
          <a:xfrm>
            <a:off x="4952880" y="2205000"/>
            <a:ext cx="3633840" cy="38052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9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Narzędzie LUP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22"/>
          <p:cNvSpPr/>
          <p:nvPr/>
        </p:nvSpPr>
        <p:spPr>
          <a:xfrm>
            <a:off x="4495680" y="5486400"/>
            <a:ext cx="609840" cy="115920"/>
          </a:xfrm>
          <a:prstGeom prst="rightArrow">
            <a:avLst>
              <a:gd name="adj1" fmla="val 50000"/>
              <a:gd name="adj2" fmla="val 1315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23"/>
          <p:cNvSpPr/>
          <p:nvPr/>
        </p:nvSpPr>
        <p:spPr>
          <a:xfrm rot="600000">
            <a:off x="2896920" y="2742840"/>
            <a:ext cx="2479680" cy="115920"/>
          </a:xfrm>
          <a:prstGeom prst="rightArrow">
            <a:avLst>
              <a:gd name="adj1" fmla="val 50000"/>
              <a:gd name="adj2" fmla="val 53478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295280" y="14479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Przy powiększeniu 6x lub 8x możemy skorzystać z siatki. Umożliwia ona precyzyjne wykonanie rysunkó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04920" y="48006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Z paska menu wybieramy: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616720" cy="20890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Wykorzystanie siat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2209680" y="5791320"/>
            <a:ext cx="609840" cy="115920"/>
          </a:xfrm>
          <a:prstGeom prst="rightArrow">
            <a:avLst>
              <a:gd name="adj1" fmla="val 50000"/>
              <a:gd name="adj2" fmla="val 1315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5334120" y="5867280"/>
            <a:ext cx="609480" cy="115920"/>
          </a:xfrm>
          <a:prstGeom prst="rightArrow">
            <a:avLst>
              <a:gd name="adj1" fmla="val 50000"/>
              <a:gd name="adj2" fmla="val 13144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457200" y="5029200"/>
            <a:ext cx="19810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Tahoma"/>
              </a:rPr>
              <a:t>Wid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2971800" y="5029200"/>
            <a:ext cx="2362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Tahoma"/>
              </a:rPr>
              <a:t>Powiększe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6019920" y="5029200"/>
            <a:ext cx="2361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Tahoma"/>
              </a:rPr>
              <a:t>Pokaż siatk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3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3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3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5"/>
          <p:cNvSpPr txBox="1"/>
          <p:nvPr/>
        </p:nvSpPr>
        <p:spPr>
          <a:xfrm>
            <a:off x="2286000" y="3657600"/>
            <a:ext cx="446400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ziękuję za uwagę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990720" y="1219320"/>
            <a:ext cx="6933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Szerszych informacji można uzyska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w programie PA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Tahoma"/>
              </a:rPr>
              <a:t>Menu główne          Pomo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4648320" y="2514600"/>
            <a:ext cx="609480" cy="115920"/>
          </a:xfrm>
          <a:prstGeom prst="rightArrow">
            <a:avLst>
              <a:gd name="adj1" fmla="val 50000"/>
              <a:gd name="adj2" fmla="val 13144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26"/>
          <p:cNvSpPr/>
          <p:nvPr/>
        </p:nvSpPr>
        <p:spPr>
          <a:xfrm>
            <a:off x="539640" y="220500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027"/>
          <p:cNvSpPr/>
          <p:nvPr/>
        </p:nvSpPr>
        <p:spPr>
          <a:xfrm>
            <a:off x="914400" y="8380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Pierwsze uruchomienie programu Pa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029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1033" descr="C:\Documents and Settings\Administrator\Pulpit\men1.JPG"/>
          <p:cNvPicPr/>
          <p:nvPr/>
        </p:nvPicPr>
        <p:blipFill>
          <a:blip r:embed="rId1"/>
          <a:stretch/>
        </p:blipFill>
        <p:spPr>
          <a:xfrm>
            <a:off x="228600" y="1828800"/>
            <a:ext cx="2658960" cy="41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5" descr="C:\Documents and Settings\Administrator\Pulpit\men2.JPG"/>
          <p:cNvPicPr/>
          <p:nvPr/>
        </p:nvPicPr>
        <p:blipFill>
          <a:blip r:embed="rId2"/>
          <a:stretch/>
        </p:blipFill>
        <p:spPr>
          <a:xfrm>
            <a:off x="3886200" y="2895480"/>
            <a:ext cx="2144880" cy="1938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6" descr="C:\Documents and Settings\Administrator\Pulpit\men3.JPG"/>
          <p:cNvPicPr/>
          <p:nvPr/>
        </p:nvPicPr>
        <p:blipFill>
          <a:blip r:embed="rId3"/>
          <a:stretch/>
        </p:blipFill>
        <p:spPr>
          <a:xfrm>
            <a:off x="7010280" y="1828800"/>
            <a:ext cx="1730520" cy="24703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047"/>
          <p:cNvSpPr/>
          <p:nvPr/>
        </p:nvSpPr>
        <p:spPr>
          <a:xfrm>
            <a:off x="3048120" y="4038480"/>
            <a:ext cx="609480" cy="115920"/>
          </a:xfrm>
          <a:prstGeom prst="rightArrow">
            <a:avLst>
              <a:gd name="adj1" fmla="val 50000"/>
              <a:gd name="adj2" fmla="val 13144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AutoShape 1048"/>
          <p:cNvSpPr/>
          <p:nvPr/>
        </p:nvSpPr>
        <p:spPr>
          <a:xfrm>
            <a:off x="6248520" y="3429000"/>
            <a:ext cx="609480" cy="115920"/>
          </a:xfrm>
          <a:prstGeom prst="rightArrow">
            <a:avLst>
              <a:gd name="adj1" fmla="val 50000"/>
              <a:gd name="adj2" fmla="val 13144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049"/>
          <p:cNvSpPr/>
          <p:nvPr/>
        </p:nvSpPr>
        <p:spPr>
          <a:xfrm>
            <a:off x="2895480" y="5105520"/>
            <a:ext cx="624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Aby otworzyć program Paint należy wybrać kolejn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Tahoma"/>
              </a:rPr>
              <a:t>Start            Programy             Akcesoria              Pa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Group 1053"/>
          <p:cNvGrpSpPr/>
          <p:nvPr/>
        </p:nvGrpSpPr>
        <p:grpSpPr>
          <a:xfrm>
            <a:off x="3733920" y="5638680"/>
            <a:ext cx="4419360" cy="115920"/>
            <a:chOff x="3733920" y="5638680"/>
            <a:chExt cx="4419360" cy="115920"/>
          </a:xfrm>
        </p:grpSpPr>
        <p:sp>
          <p:nvSpPr>
            <p:cNvPr id="67" name="AutoShape 1050"/>
            <p:cNvSpPr/>
            <p:nvPr/>
          </p:nvSpPr>
          <p:spPr>
            <a:xfrm>
              <a:off x="3733920" y="5638680"/>
              <a:ext cx="609480" cy="115920"/>
            </a:xfrm>
            <a:prstGeom prst="rightArrow">
              <a:avLst>
                <a:gd name="adj1" fmla="val 50000"/>
                <a:gd name="adj2" fmla="val 13144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AutoShape 1051"/>
            <p:cNvSpPr/>
            <p:nvPr/>
          </p:nvSpPr>
          <p:spPr>
            <a:xfrm>
              <a:off x="5638680" y="5638680"/>
              <a:ext cx="609840" cy="115920"/>
            </a:xfrm>
            <a:prstGeom prst="rightArrow">
              <a:avLst>
                <a:gd name="adj1" fmla="val 50000"/>
                <a:gd name="adj2" fmla="val 131522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52"/>
            <p:cNvSpPr/>
            <p:nvPr/>
          </p:nvSpPr>
          <p:spPr>
            <a:xfrm>
              <a:off x="7543800" y="5638680"/>
              <a:ext cx="609480" cy="115920"/>
            </a:xfrm>
            <a:prstGeom prst="rightArrow">
              <a:avLst>
                <a:gd name="adj1" fmla="val 50000"/>
                <a:gd name="adj2" fmla="val 13144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Widok po uruchomieni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15" descr="C:\Documents and Settings\Administrator\Pulpit\menu4.JPG"/>
          <p:cNvPicPr/>
          <p:nvPr/>
        </p:nvPicPr>
        <p:blipFill>
          <a:blip r:embed="rId1"/>
          <a:stretch/>
        </p:blipFill>
        <p:spPr>
          <a:xfrm>
            <a:off x="2362320" y="1219320"/>
            <a:ext cx="6232320" cy="4798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6"/>
          <p:cNvSpPr/>
          <p:nvPr/>
        </p:nvSpPr>
        <p:spPr>
          <a:xfrm>
            <a:off x="7036560" y="632448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Obszar robocz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408960" y="624852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Wybór koloró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417600" y="3048120"/>
            <a:ext cx="11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Narzędz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413280" y="5029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Wybrany kol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437400" y="563868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Kolor tł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AutoShape 26"/>
          <p:cNvSpPr/>
          <p:nvPr/>
        </p:nvSpPr>
        <p:spPr>
          <a:xfrm>
            <a:off x="1523880" y="3200400"/>
            <a:ext cx="838440" cy="76320"/>
          </a:xfrm>
          <a:prstGeom prst="rightArrow">
            <a:avLst>
              <a:gd name="adj1" fmla="val 50000"/>
              <a:gd name="adj2" fmla="val 27464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AutoShape 27"/>
          <p:cNvSpPr/>
          <p:nvPr/>
        </p:nvSpPr>
        <p:spPr>
          <a:xfrm rot="19800000">
            <a:off x="1963800" y="6149880"/>
            <a:ext cx="696960" cy="74880"/>
          </a:xfrm>
          <a:prstGeom prst="rightArrow">
            <a:avLst>
              <a:gd name="adj1" fmla="val 50000"/>
              <a:gd name="adj2" fmla="val 23269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16160" y="205740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Przyborni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29"/>
          <p:cNvSpPr/>
          <p:nvPr/>
        </p:nvSpPr>
        <p:spPr>
          <a:xfrm>
            <a:off x="1523880" y="2209680"/>
            <a:ext cx="838440" cy="76320"/>
          </a:xfrm>
          <a:prstGeom prst="rightArrow">
            <a:avLst>
              <a:gd name="adj1" fmla="val 50000"/>
              <a:gd name="adj2" fmla="val 27464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30"/>
          <p:cNvSpPr/>
          <p:nvPr/>
        </p:nvSpPr>
        <p:spPr>
          <a:xfrm>
            <a:off x="1447920" y="5791320"/>
            <a:ext cx="914400" cy="75960"/>
          </a:xfrm>
          <a:prstGeom prst="rightArrow">
            <a:avLst>
              <a:gd name="adj1" fmla="val 50000"/>
              <a:gd name="adj2" fmla="val 30094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32"/>
          <p:cNvSpPr/>
          <p:nvPr/>
        </p:nvSpPr>
        <p:spPr>
          <a:xfrm rot="2580000">
            <a:off x="1752480" y="5486400"/>
            <a:ext cx="762120" cy="76320"/>
          </a:xfrm>
          <a:prstGeom prst="rightArrow">
            <a:avLst>
              <a:gd name="adj1" fmla="val 50000"/>
              <a:gd name="adj2" fmla="val 24964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33"/>
          <p:cNvSpPr/>
          <p:nvPr/>
        </p:nvSpPr>
        <p:spPr>
          <a:xfrm rot="14880000">
            <a:off x="6858000" y="5638680"/>
            <a:ext cx="1295280" cy="76320"/>
          </a:xfrm>
          <a:prstGeom prst="rightArrow">
            <a:avLst>
              <a:gd name="adj1" fmla="val 50000"/>
              <a:gd name="adj2" fmla="val 42429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9" descr=""/>
          <p:cNvPicPr/>
          <p:nvPr/>
        </p:nvPicPr>
        <p:blipFill>
          <a:blip r:embed="rId1"/>
          <a:stretch/>
        </p:blipFill>
        <p:spPr>
          <a:xfrm>
            <a:off x="611280" y="5373720"/>
            <a:ext cx="8874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371600" y="2819520"/>
            <a:ext cx="8229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Paleta kolorów – z niej wybieramy interesujący nas kol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Aby wybrać kolor należy kliknąć lewym klawiszem na wybranym kolorz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będzie on kolorem rysowan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Chcąc wybrać kolor tła, czyli drugi kolor, używamy prawego klawis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819520" y="5867280"/>
            <a:ext cx="33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Kolor tł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743200" y="5562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olor rysowa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8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4751280" cy="8049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5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Kol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29"/>
          <p:cNvSpPr/>
          <p:nvPr/>
        </p:nvSpPr>
        <p:spPr>
          <a:xfrm>
            <a:off x="990720" y="2362320"/>
            <a:ext cx="115920" cy="3047760"/>
          </a:xfrm>
          <a:prstGeom prst="downArrow">
            <a:avLst>
              <a:gd name="adj1" fmla="val 50000"/>
              <a:gd name="adj2" fmla="val 65729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30"/>
          <p:cNvSpPr/>
          <p:nvPr/>
        </p:nvSpPr>
        <p:spPr>
          <a:xfrm>
            <a:off x="1066680" y="5715000"/>
            <a:ext cx="1447920" cy="115920"/>
          </a:xfrm>
          <a:prstGeom prst="leftArrow">
            <a:avLst>
              <a:gd name="adj1" fmla="val 50000"/>
              <a:gd name="adj2" fmla="val 3122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31"/>
          <p:cNvSpPr/>
          <p:nvPr/>
        </p:nvSpPr>
        <p:spPr>
          <a:xfrm>
            <a:off x="1219320" y="6019920"/>
            <a:ext cx="1447560" cy="115920"/>
          </a:xfrm>
          <a:prstGeom prst="leftArrow">
            <a:avLst>
              <a:gd name="adj1" fmla="val 50000"/>
              <a:gd name="adj2" fmla="val 31218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684360" y="1396440"/>
            <a:ext cx="504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rzędzia program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gum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zakraplac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ołówe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spra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linia prosta, krzyw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kształty matematy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ypełnienie kolo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lup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ędz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tek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093080" y="1341360"/>
            <a:ext cx="1204920" cy="5184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Narzędzia programu Pa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7391520" y="1905120"/>
            <a:ext cx="1160280" cy="1160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111924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3"/>
          <a:stretch/>
        </p:blipFill>
        <p:spPr>
          <a:xfrm>
            <a:off x="7238880" y="3733920"/>
            <a:ext cx="1335240" cy="208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1981080" y="43434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Po wybraniu narzędzia Pędzel możemy wybrać 12 różnych stylów pędz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828800" y="1676520"/>
            <a:ext cx="51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Aby rysować odręcznie możemy skorzystać z narzędzi służących do rysowania odręcznego, tj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ołówka i pędz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Narzędzie OŁÓWEK I PĘDZ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20"/>
          <p:cNvSpPr/>
          <p:nvPr/>
        </p:nvSpPr>
        <p:spPr>
          <a:xfrm rot="17400000">
            <a:off x="2382840" y="1960560"/>
            <a:ext cx="110880" cy="1828800"/>
          </a:xfrm>
          <a:prstGeom prst="upArrow">
            <a:avLst>
              <a:gd name="adj1" fmla="val 50000"/>
              <a:gd name="adj2" fmla="val 41233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21"/>
          <p:cNvSpPr/>
          <p:nvPr/>
        </p:nvSpPr>
        <p:spPr>
          <a:xfrm rot="4200000">
            <a:off x="6421320" y="1960560"/>
            <a:ext cx="110880" cy="1828800"/>
          </a:xfrm>
          <a:prstGeom prst="upArrow">
            <a:avLst>
              <a:gd name="adj1" fmla="val 50000"/>
              <a:gd name="adj2" fmla="val 41233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22"/>
          <p:cNvSpPr/>
          <p:nvPr/>
        </p:nvSpPr>
        <p:spPr>
          <a:xfrm rot="5400000">
            <a:off x="6150240" y="4285440"/>
            <a:ext cx="115920" cy="2057400"/>
          </a:xfrm>
          <a:prstGeom prst="upArrow">
            <a:avLst>
              <a:gd name="adj1" fmla="val 50000"/>
              <a:gd name="adj2" fmla="val 44371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6"/>
          <p:cNvGraphicFramePr/>
          <p:nvPr/>
        </p:nvGraphicFramePr>
        <p:xfrm>
          <a:off x="990720" y="1676520"/>
          <a:ext cx="111744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111744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5"/>
          <p:cNvSpPr/>
          <p:nvPr/>
        </p:nvSpPr>
        <p:spPr>
          <a:xfrm>
            <a:off x="2209680" y="1828800"/>
            <a:ext cx="63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Gumka – jest narzędziem służącym do wymazywania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8"/>
          <p:cNvGraphicFramePr/>
          <p:nvPr/>
        </p:nvGraphicFramePr>
        <p:xfrm>
          <a:off x="990720" y="3429000"/>
          <a:ext cx="1150920" cy="19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115092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10"/>
          <p:cNvSpPr/>
          <p:nvPr/>
        </p:nvSpPr>
        <p:spPr>
          <a:xfrm>
            <a:off x="2700360" y="3789360"/>
            <a:ext cx="37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340000" y="3789360"/>
            <a:ext cx="33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286000" y="3429000"/>
            <a:ext cx="611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Po kliknięciu w ikonkę gumki wybieramy grubość gumk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Trzymając wciśnięty klawisz Ctrl oraz naciskając klawisz + lub – możemy ustawić dowolną wielkość gumki.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Narzędzie GUM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4" descr=""/>
          <p:cNvPicPr/>
          <p:nvPr/>
        </p:nvPicPr>
        <p:blipFill>
          <a:blip r:embed="rId1"/>
          <a:stretch/>
        </p:blipFill>
        <p:spPr>
          <a:xfrm>
            <a:off x="5486400" y="2209680"/>
            <a:ext cx="3343320" cy="40276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9"/>
          <p:cNvSpPr/>
          <p:nvPr/>
        </p:nvSpPr>
        <p:spPr>
          <a:xfrm>
            <a:off x="1692360" y="1413000"/>
            <a:ext cx="51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Narzędzie LINIA służy do rysowania prostych lini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7" descr="linia"/>
          <p:cNvPicPr/>
          <p:nvPr/>
        </p:nvPicPr>
        <p:blipFill>
          <a:blip r:embed="rId2"/>
          <a:stretch/>
        </p:blipFill>
        <p:spPr>
          <a:xfrm>
            <a:off x="684360" y="1341360"/>
            <a:ext cx="960120" cy="982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"/>
          <p:cNvPicPr/>
          <p:nvPr/>
        </p:nvPicPr>
        <p:blipFill>
          <a:blip r:embed="rId3"/>
          <a:stretch/>
        </p:blipFill>
        <p:spPr>
          <a:xfrm>
            <a:off x="755640" y="3573360"/>
            <a:ext cx="906480" cy="935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6"/>
          <p:cNvSpPr/>
          <p:nvPr/>
        </p:nvSpPr>
        <p:spPr>
          <a:xfrm>
            <a:off x="1692360" y="364500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Służy do rysowania linii krzywy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28"/>
          <p:cNvSpPr/>
          <p:nvPr/>
        </p:nvSpPr>
        <p:spPr>
          <a:xfrm>
            <a:off x="5410080" y="4191120"/>
            <a:ext cx="648000" cy="28728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914400" y="6094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Tahoma"/>
              </a:rPr>
              <a:t>Narzędzie LI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457200" y="6400800"/>
            <a:ext cx="83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ffffff"/>
                </a:solidFill>
                <a:latin typeface="Arial"/>
              </a:rPr>
              <a:t>Wykonał Wojciech Do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34"/>
          <p:cNvSpPr/>
          <p:nvPr/>
        </p:nvSpPr>
        <p:spPr>
          <a:xfrm rot="1320000">
            <a:off x="1530000" y="2971800"/>
            <a:ext cx="4233960" cy="115920"/>
          </a:xfrm>
          <a:prstGeom prst="rightArrow">
            <a:avLst>
              <a:gd name="adj1" fmla="val 50000"/>
              <a:gd name="adj2" fmla="val 91312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35"/>
          <p:cNvSpPr/>
          <p:nvPr/>
        </p:nvSpPr>
        <p:spPr>
          <a:xfrm rot="600000">
            <a:off x="1596960" y="4770000"/>
            <a:ext cx="5299200" cy="115920"/>
          </a:xfrm>
          <a:prstGeom prst="rightArrow">
            <a:avLst>
              <a:gd name="adj1" fmla="val 50000"/>
              <a:gd name="adj2" fmla="val 114285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68360" y="1159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espół Szkół nr 4 w Mrągow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7T18:03:28Z</dcterms:created>
  <dc:creator>RW</dc:creator>
  <dc:description/>
  <dc:language>en-US</dc:language>
  <cp:lastModifiedBy>Doda</cp:lastModifiedBy>
  <dcterms:modified xsi:type="dcterms:W3CDTF">2016-11-10T06:31:45Z</dcterms:modified>
  <cp:revision>122</cp:revision>
  <dc:subject/>
  <dc:title>Prezentacja programu PowerPoint</dc:title>
</cp:coreProperties>
</file>